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77600" cy="93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3400" y="703080"/>
            <a:ext cx="4691160" cy="35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8910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008240" y="8910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2927B2-9504-4DE1-8D28-8525E4644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1160" cy="3517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abcam.com/ps/CMS/Images/cancer%20pathways.gif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CF2E12B-2220-4B48-8451-A75715FF0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008600" y="891072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8541F78-B61A-4409-A0A6-485FD91E3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93760" y="703440"/>
            <a:ext cx="4691160" cy="3517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7760" y="4456080"/>
            <a:ext cx="5661000" cy="4222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g cancer is, by far, the most common fatal cancer in men (31%), followed by colon &amp; rectum (10%), and prostate (9%).  In women, lung (26%), breast (15%), and colon &amp; rectum (10%) are the leading sites of cancer dea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1EB-12DE-46DF-808E-B83FD7E9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CDA-180D-46FD-A820-70C4135C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C45-96E6-403D-AC90-0761B758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ECF-9C2A-43AF-B361-546F04D0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A49-4191-4DFE-A26E-0D361A85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AF1-C74D-4BF8-95CC-B032D020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7E0-5D06-4CEC-BF0B-CB360AD6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1DA-8BE2-47C4-8476-E800AC03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05D-2183-47EF-AC87-E2120C53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D38-5035-4431-8822-B73FEAA0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B3F-0082-4841-896E-6B875566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755-67C5-4230-8C31-E7B4D926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6467-C979-497A-94DD-DBB2259BE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55623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 rot="1432200">
            <a:off x="5257440" y="1523520"/>
            <a:ext cx="35812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 Black"/>
              </a:rPr>
              <a:t>Regulating the Cell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638320" y="53337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iology 3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0-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http://homepage.mac.com/enognog/cell%20cycle.jpg"/>
          <p:cNvPicPr/>
          <p:nvPr/>
        </p:nvPicPr>
        <p:blipFill>
          <a:blip r:embed="rId1"/>
          <a:stretch/>
        </p:blipFill>
        <p:spPr>
          <a:xfrm>
            <a:off x="95400" y="895320"/>
            <a:ext cx="5410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Cycle Reg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Can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un, chem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exercisi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besity is linked to sev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s (but not necessarily inheri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ations in genes that regulate cell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5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ene responsible for halting the cell cycle until all chromosomes have replicated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cts in this gene is a precursor to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ion of Can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3" descr=""/>
          <p:cNvPicPr/>
          <p:nvPr/>
        </p:nvPicPr>
        <p:blipFill>
          <a:blip r:embed="rId1"/>
          <a:stretch/>
        </p:blipFill>
        <p:spPr>
          <a:xfrm>
            <a:off x="450720" y="1292400"/>
            <a:ext cx="824256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ds of Canc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OLID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cinom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iginate from surface cells (skin, wall of intestine, surface of org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rcom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one, cartilage, fat, mus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IQUID” 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ukemi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irculate in blood stream, from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ymphom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veloped in lymph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7108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06 Estimated US Cancer Death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291320" y="6429240"/>
            <a:ext cx="286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S=Other nervous syste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urce: American Cancer Society, 200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505320" y="1447920"/>
            <a:ext cx="12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1,2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876920" y="1523880"/>
            <a:ext cx="15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3,5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5181480" y="2209680"/>
            <a:ext cx="666720" cy="4016520"/>
          </a:xfrm>
          <a:prstGeom prst="pi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3809880" y="2133720"/>
            <a:ext cx="633600" cy="4047840"/>
          </a:xfrm>
          <a:prstGeom prst="pie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6248520" y="1600200"/>
            <a:ext cx="308592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g &amp; bronch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n &amp; rect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uke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Hodgk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lymph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erine corp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myel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in/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3999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%    All other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762120" y="1523880"/>
            <a:ext cx="403848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g &amp; bronch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n &amp; rect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cre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ukem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r &amp; intrahep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e 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ophag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Hodgkin                 3%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ymphoma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inary blad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dn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other sites               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r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gery – remove the affected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– high-dose X-rays kil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otherapy – drugs kil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mone therapy – hormones stop cell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 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video.about.com/cancer/Chemotherapy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video.about.com/cancer/Chronic-Myeloid-Leukemia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video.about.com/cancer/CyberKnife-Radiosurgery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video.on.nytimes.com/index.jsp?fr_story=cde8a179a490d9a9fe977c6df92fb8fe3b88a53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lung cancer and CT sca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c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ne in three people will develop cancer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ne in four people will die of cancer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re than 1500 Americans died each day of cancer this year.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ver 1,000,000 cases of skin cancer will be diagnosed this year.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ncer is the leading cause of death among Americans under the age of 8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Canc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1294920"/>
            <a:ext cx="8534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order in whic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ome of the body’s cells lose the ability to control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’s of different 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o not respo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internal &amp;/or external sign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ously divide – forming masses of cell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umo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cer cells can break from a tumor and spread throughout the body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etastasiz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die from skin canc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5" descr="cancer.gif"/>
          <p:cNvPicPr/>
          <p:nvPr/>
        </p:nvPicPr>
        <p:blipFill>
          <a:blip r:embed="rId1"/>
          <a:stretch/>
        </p:blipFill>
        <p:spPr>
          <a:xfrm>
            <a:off x="609480" y="893880"/>
            <a:ext cx="8077320" cy="58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bio_ch10_6031"/>
          <p:cNvPicPr/>
          <p:nvPr/>
        </p:nvPicPr>
        <p:blipFill>
          <a:blip r:embed="rId1"/>
          <a:stretch/>
        </p:blipFill>
        <p:spPr>
          <a:xfrm>
            <a:off x="528480" y="2313000"/>
            <a:ext cx="7953480" cy="2647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31480"/>
            <a:ext cx="86868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happening in the petri dis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tion 10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457200" y="51814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represent the healing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rm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ells eventually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auses the cell cycle to continue?  Is it automatic?  Does it ever sto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685800" y="2895480"/>
          <a:ext cx="807732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5480"/>
                    <a:ext cx="80773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Cycle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ells do not move through the cell cycle at the same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120" y="2361960"/>
            <a:ext cx="8077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a developing embryo replicate rapidly- 3 min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erage time of cell cycle- 20 ho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esophagus- 2-3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small intestine- 1-2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large intestine- 6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 blood cells-120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te blood cells- 10hrs-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bio_ch10_4502"/>
          <p:cNvPicPr/>
          <p:nvPr/>
        </p:nvPicPr>
        <p:blipFill>
          <a:blip r:embed="rId1"/>
          <a:stretch/>
        </p:blipFill>
        <p:spPr>
          <a:xfrm>
            <a:off x="1050840" y="1900080"/>
            <a:ext cx="6645240" cy="2748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80880" y="3276720"/>
            <a:ext cx="9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mple of cytoplasm is removed from a cell in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572000" y="2057400"/>
            <a:ext cx="1817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ple is injected into a second cell in 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inter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394320" y="478620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the second cell enters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30592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othesis: Substance X will cause a cell to start mitosi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tance X = CYCLI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tion 10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80880" y="5181480"/>
            <a:ext cx="849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llular protein that regulates the tim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cell cycle in eukaryotic cell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reate spindl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Cycle Reg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s that respond to signals inside the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points during interpha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all DNA has been properly m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all chromosomes have attached to a spin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294920"/>
            <a:ext cx="44956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s that respond to events outside the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up or slow down cell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 to environment and “crowding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bio_ch10_6031"/>
          <p:cNvPicPr/>
          <p:nvPr/>
        </p:nvPicPr>
        <p:blipFill>
          <a:blip r:embed="rId1"/>
          <a:stretch/>
        </p:blipFill>
        <p:spPr>
          <a:xfrm>
            <a:off x="4265640" y="5029200"/>
            <a:ext cx="45212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9:05:18Z</dcterms:created>
  <dc:creator>James P. Lilliendahl</dc:creator>
  <dc:description/>
  <dc:language>en-US</dc:language>
  <cp:lastModifiedBy>Preferred Customer</cp:lastModifiedBy>
  <dcterms:modified xsi:type="dcterms:W3CDTF">2011-03-28T10:11:59Z</dcterms:modified>
  <cp:revision>58</cp:revision>
  <dc:subject/>
  <dc:title>Regulating the Cell Cycle</dc:title>
</cp:coreProperties>
</file>